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F5994-2B10-47CE-84D2-0DC9D03BB6A3}"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Calibri"/>
            </a:endParaRPr>
          </a:p>
        </p:txBody>
      </p:sp>
      <p:sp>
        <p:nvSpPr>
          <p:cNvPr id="101" name="Dian numeron paikkamerkki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3739D-944C-4248-91CA-5225F135DE4F}"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49A438-DD5F-4B92-BD10-BE994F36C2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A73EF-220C-46EB-A396-BBFDF64D5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D2459F-869B-4925-87BE-880A3FE0B4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A9A1AA-A3E8-481C-B5FE-FB028A9D0F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18760-E95E-4D87-A024-0FE25B222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6EF5D-94F3-432E-A562-D1FA81F0B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DF8A9-8751-4228-9B34-C3C5E5A70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7A83F-4310-480A-8241-58424FD45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BADF3-2D03-4B3A-9938-8FEE276DD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F2B09-2BDC-46A8-82E3-4B695D83D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88A46-B97C-4A0B-8C0F-0F874F93C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BF147-12CA-4900-B101-04D47F582B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33BF3-26EE-4AFF-A7D7-74ED88CEFFE8}" type="slidenum">
              <a:rPr b="0" lang="fi-FI"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proquest.umi.com/pqdlink?did=750777791&amp;sid=1&amp;Fmt=6&amp;clientId=23398&amp;RQT=309&amp;VName=PQD"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48" name="Suorakulmio 4"/>
          <p:cNvSpPr/>
          <p:nvPr/>
        </p:nvSpPr>
        <p:spPr>
          <a:xfrm>
            <a:off x="324000" y="981000"/>
            <a:ext cx="2643120" cy="571500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Suorakulmio 7"/>
          <p:cNvSpPr/>
          <p:nvPr/>
        </p:nvSpPr>
        <p:spPr>
          <a:xfrm>
            <a:off x="3286080" y="857160"/>
            <a:ext cx="2643120" cy="578664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Suorakulmio 8"/>
          <p:cNvSpPr/>
          <p:nvPr/>
        </p:nvSpPr>
        <p:spPr>
          <a:xfrm>
            <a:off x="6227640" y="907920"/>
            <a:ext cx="2605320" cy="576108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uorakulmio 9"/>
          <p:cNvSpPr/>
          <p:nvPr/>
        </p:nvSpPr>
        <p:spPr>
          <a:xfrm>
            <a:off x="324000" y="907920"/>
            <a:ext cx="2643120" cy="142920"/>
          </a:xfrm>
          <a:prstGeom prst="rect">
            <a:avLst/>
          </a:prstGeom>
          <a:solidFill>
            <a:srgbClr val="d1337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ffffff"/>
                </a:solidFill>
                <a:latin typeface="Calibri"/>
              </a:rPr>
              <a:t>Johdanto</a:t>
            </a:r>
            <a:endParaRPr b="0" lang="en-US" sz="1000" spc="-1" strike="noStrike">
              <a:solidFill>
                <a:srgbClr val="000000"/>
              </a:solidFill>
              <a:latin typeface="Arial"/>
            </a:endParaRPr>
          </a:p>
        </p:txBody>
      </p:sp>
      <p:sp>
        <p:nvSpPr>
          <p:cNvPr id="52" name="Tekstikehys 10"/>
          <p:cNvSpPr/>
          <p:nvPr/>
        </p:nvSpPr>
        <p:spPr>
          <a:xfrm>
            <a:off x="1657440" y="115920"/>
            <a:ext cx="605412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Calibri"/>
              </a:rPr>
              <a:t>Esimiehen tai projektipäällikön tuki asiantuntijan motivaatio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Calibri"/>
              </a:rPr>
              <a:t>Sirpa Erkkilä-Häkkinen, Tari Koskela, Kristiina Simojoki ja Marja Varis</a:t>
            </a:r>
            <a:endParaRPr b="0" lang="en-US" sz="800" spc="-1" strike="noStrike">
              <a:solidFill>
                <a:srgbClr val="000000"/>
              </a:solidFill>
              <a:latin typeface="Arial"/>
            </a:endParaRPr>
          </a:p>
        </p:txBody>
      </p:sp>
      <p:sp>
        <p:nvSpPr>
          <p:cNvPr id="53" name="Tekstikehys 11"/>
          <p:cNvSpPr/>
          <p:nvPr/>
        </p:nvSpPr>
        <p:spPr>
          <a:xfrm>
            <a:off x="395280" y="1197000"/>
            <a:ext cx="2521080" cy="411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Työn tavoitteena oli selvittää, miten esimies tai työnjohtoroolissa toimiva projektipäällikkö voi tukea projektityötä tekevän asiantuntijan työmotivaatiota. Työn tarkastelun kontekstina on projektimaisesti toimiva asiantuntijaorganisaatio, jonka asiakkaille tuottama lisäarvo perustuu organisaation erikoistumisalueilla tekemään jatkuvasti kehittyvään ongelmanratkaisutyöhön. Kohdeorganisaation menestymisen edellytyksenä on kehittyvä asiantuntijuus, joka vaatii erikoistunutta tietämystä ja toiminta-alueen ymmärrystä, mutta myös motivaatiota suorituksen jatkuvaan parantamiseen ja yhä haastavampien ongelmien ratkaisemiseen.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Ryhmän työskentely perustui asiantuntijaryhmän yhteisölliseen ongelmanratkaisu-menetelmään, jonka teoreettisena taustana toimii ajankohtainen motivaatiotutkimus.</a:t>
            </a:r>
            <a:br>
              <a:rPr sz="500"/>
            </a:b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Tutkimuskysymyksenä oli: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Miten projektipäällikkö tai lähiesimies voi tukea asiantuntijan motivaatiota?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Millaisista tekijöistä asiantuntijan työmotivaatio muodostuu?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Mitkä tekijät pitävät asiantuntijan motivaatiota yllä?</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00" spc="-1" strike="noStrike">
                <a:solidFill>
                  <a:srgbClr val="000000"/>
                </a:solidFill>
                <a:latin typeface="Calibri"/>
              </a:rPr>
              <a:t>Motivaatio</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Ihmiset motivoituvat elämänsä erivaiheissa erilaisista asioista. Yksilöä motivoivat asiat voivat muuttua uran aikana moneen kertaan. Siksi esimiehen tulee oppia tunnistamaan ne asiat, jotka vaikuttavat asiantuntijan motivaatioon.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Työmotivaatio sisältää: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1. Sisäiset voimat, jotka saavat ihmiset toimimaan tietyllä tavalla,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2. suunnan, mikä saa ihmiset toimimaan tiettyjen tavoitteiden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suuntaisesti ja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3. toiminnan ylläpidon, mitkä tekijät yksilössä ja ympäristössä joko vahvistavat nykyistä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toimintaa tai suuntaavat sen uudelleen.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Rahallinen palkitseminen on vain yksi työkalu työssä motivoimiseen. Työmotivaatiossa on kysymys laajoista  motivaatioverkostoista, jotka sisältävät ulkoiset eli helposti tunnistettavat, sisäiset, osittain tiedostamattomat ja tunneperäiset. Nykyäänkään ei tunneta yhtä selkeää, yhteisesti hyväksyttyä motivaatioteoriaa.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Ajattelutoiminnat tukevat tavoitteita, yksilölliset motiivihierarkiat, suoriutuminen, sisä- ja ulkosyntyinen motivaatio, tulevaisuuden toiveet ja pelot, henkilökohtaiset tavoitteet, tarpeet ja niiden tyydyttäminen.</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Ollakseen mahdollisimman motivoivia työtehtävien tulisi olla riittävän kompleksisia, kokonaisvaltaisia ja tarjota riittävästi vapautta  sekä mahdollisuutta työskennellä ryhmässä tai ryhmänä, jotta  työtehtävä tukisi parhaalla mahdollisella tavalla  työntekijän itsenäisyyttä, kompetenssin tunteita ja  tarvetta yhteisöllisyyteen.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Valmentava esimies delegoi ohjauksen ja tuen avulla tehtävät asiantuntijan kykyjen mukaan (Kuva 1).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Bereiter &amp; Scardamalia, 1993; Bauer et al.,2007; Luoma et al., 2004; Nurmi &amp; Salmela-Aro, 2002; Vartiainen &amp; Nurmela, 2002)</a:t>
            </a:r>
            <a:endParaRPr b="0" lang="en-US" sz="500" spc="-1" strike="noStrike">
              <a:solidFill>
                <a:srgbClr val="000000"/>
              </a:solidFill>
              <a:latin typeface="Arial"/>
            </a:endParaRPr>
          </a:p>
        </p:txBody>
      </p:sp>
      <p:grpSp>
        <p:nvGrpSpPr>
          <p:cNvPr id="54" name="Ryhmä 70"/>
          <p:cNvGrpSpPr/>
          <p:nvPr/>
        </p:nvGrpSpPr>
        <p:grpSpPr>
          <a:xfrm>
            <a:off x="3564000" y="907920"/>
            <a:ext cx="2087640" cy="1542960"/>
            <a:chOff x="3564000" y="907920"/>
            <a:chExt cx="2087640" cy="1542960"/>
          </a:xfrm>
        </p:grpSpPr>
        <p:grpSp>
          <p:nvGrpSpPr>
            <p:cNvPr id="55" name="Ryhmä 12"/>
            <p:cNvGrpSpPr/>
            <p:nvPr/>
          </p:nvGrpSpPr>
          <p:grpSpPr>
            <a:xfrm>
              <a:off x="3913560" y="1105560"/>
              <a:ext cx="1325520" cy="1111320"/>
              <a:chOff x="3913560" y="1105560"/>
              <a:chExt cx="1325520" cy="1111320"/>
            </a:xfrm>
          </p:grpSpPr>
          <p:sp>
            <p:nvSpPr>
              <p:cNvPr id="56" name="Ellipsi 13"/>
              <p:cNvSpPr/>
              <p:nvPr/>
            </p:nvSpPr>
            <p:spPr>
              <a:xfrm>
                <a:off x="3913560" y="1105560"/>
                <a:ext cx="728640" cy="65340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700" spc="-1" strike="noStrike">
                    <a:solidFill>
                      <a:srgbClr val="17375e"/>
                    </a:solidFill>
                    <a:latin typeface="Calibri"/>
                  </a:rPr>
                  <a:t>Kom-petenssi</a:t>
                </a:r>
                <a:endParaRPr b="0" lang="en-US" sz="700" spc="-1" strike="noStrike">
                  <a:solidFill>
                    <a:srgbClr val="000000"/>
                  </a:solidFill>
                  <a:latin typeface="Arial"/>
                </a:endParaRPr>
              </a:p>
            </p:txBody>
          </p:sp>
          <p:sp>
            <p:nvSpPr>
              <p:cNvPr id="57" name="Ellipsi 14"/>
              <p:cNvSpPr/>
              <p:nvPr/>
            </p:nvSpPr>
            <p:spPr>
              <a:xfrm>
                <a:off x="4510440" y="1170720"/>
                <a:ext cx="728640" cy="65340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700" spc="-1" strike="noStrike">
                    <a:solidFill>
                      <a:srgbClr val="17375e"/>
                    </a:solidFill>
                    <a:latin typeface="Calibri"/>
                  </a:rPr>
                  <a:t>Auto-nomia</a:t>
                </a:r>
                <a:endParaRPr b="0" lang="en-US" sz="700" spc="-1" strike="noStrike">
                  <a:solidFill>
                    <a:srgbClr val="000000"/>
                  </a:solidFill>
                  <a:latin typeface="Arial"/>
                </a:endParaRPr>
              </a:p>
            </p:txBody>
          </p:sp>
          <p:sp>
            <p:nvSpPr>
              <p:cNvPr id="58" name="Ellipsi 15"/>
              <p:cNvSpPr/>
              <p:nvPr/>
            </p:nvSpPr>
            <p:spPr>
              <a:xfrm>
                <a:off x="4178520" y="1563480"/>
                <a:ext cx="728640" cy="65340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700" spc="-1" strike="noStrike">
                    <a:solidFill>
                      <a:srgbClr val="17375e"/>
                    </a:solidFill>
                    <a:latin typeface="Calibri"/>
                  </a:rPr>
                  <a:t>Yhteisöl-lisyys</a:t>
                </a:r>
                <a:endParaRPr b="0" lang="en-US" sz="700" spc="-1" strike="noStrike">
                  <a:solidFill>
                    <a:srgbClr val="000000"/>
                  </a:solidFill>
                  <a:latin typeface="Arial"/>
                </a:endParaRPr>
              </a:p>
            </p:txBody>
          </p:sp>
        </p:grpSp>
        <p:sp>
          <p:nvSpPr>
            <p:cNvPr id="59" name="Tekstikehys 16"/>
            <p:cNvSpPr/>
            <p:nvPr/>
          </p:nvSpPr>
          <p:spPr>
            <a:xfrm>
              <a:off x="3564000" y="2205000"/>
              <a:ext cx="208764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00" spc="-1" strike="noStrike">
                  <a:solidFill>
                    <a:srgbClr val="000000"/>
                  </a:solidFill>
                  <a:latin typeface="Calibri"/>
                </a:rPr>
                <a:t>Kuva 2</a:t>
              </a:r>
              <a:r>
                <a:rPr b="0" lang="fi-FI" sz="500" spc="-1" strike="noStrike">
                  <a:solidFill>
                    <a:srgbClr val="000000"/>
                  </a:solidFill>
                  <a:latin typeface="Calibri"/>
                </a:rPr>
                <a:t>. Asiantuntijan motivaatio koostuu kompetenssista, autonomiasta sekä yhteisöllisyydestä.</a:t>
              </a:r>
              <a:endParaRPr b="0" lang="en-US" sz="500" spc="-1" strike="noStrike">
                <a:solidFill>
                  <a:srgbClr val="000000"/>
                </a:solidFill>
                <a:latin typeface="Arial"/>
              </a:endParaRPr>
            </a:p>
          </p:txBody>
        </p:sp>
        <p:sp>
          <p:nvSpPr>
            <p:cNvPr id="60" name="Tekstikehys 43"/>
            <p:cNvSpPr/>
            <p:nvPr/>
          </p:nvSpPr>
          <p:spPr>
            <a:xfrm>
              <a:off x="3738240" y="907920"/>
              <a:ext cx="1454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Calibri"/>
                </a:rPr>
                <a:t>Asiantuntijan motivaatiotekijät</a:t>
              </a:r>
              <a:endParaRPr b="0" lang="en-US" sz="800" spc="-1" strike="noStrike">
                <a:solidFill>
                  <a:srgbClr val="000000"/>
                </a:solidFill>
                <a:latin typeface="Arial"/>
              </a:endParaRPr>
            </a:p>
          </p:txBody>
        </p:sp>
      </p:grpSp>
      <p:sp>
        <p:nvSpPr>
          <p:cNvPr id="61" name="Suorakulmio 47"/>
          <p:cNvSpPr/>
          <p:nvPr/>
        </p:nvSpPr>
        <p:spPr>
          <a:xfrm>
            <a:off x="6227640" y="5805360"/>
            <a:ext cx="2592360" cy="142920"/>
          </a:xfrm>
          <a:prstGeom prst="rect">
            <a:avLst/>
          </a:prstGeom>
          <a:solidFill>
            <a:srgbClr val="d1337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ffffff"/>
                </a:solidFill>
                <a:latin typeface="Calibri"/>
              </a:rPr>
              <a:t>Lähteet</a:t>
            </a:r>
            <a:endParaRPr b="0" lang="en-US" sz="1000" spc="-1" strike="noStrike">
              <a:solidFill>
                <a:srgbClr val="000000"/>
              </a:solidFill>
              <a:latin typeface="Arial"/>
            </a:endParaRPr>
          </a:p>
        </p:txBody>
      </p:sp>
      <p:sp>
        <p:nvSpPr>
          <p:cNvPr id="62" name="Tekstikehys 63"/>
          <p:cNvSpPr/>
          <p:nvPr/>
        </p:nvSpPr>
        <p:spPr>
          <a:xfrm>
            <a:off x="6300720" y="5950080"/>
            <a:ext cx="242892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 spc="-1" strike="noStrike">
                <a:solidFill>
                  <a:srgbClr val="000000"/>
                </a:solidFill>
                <a:latin typeface="Calibri"/>
              </a:rPr>
              <a:t>        </a:t>
            </a:r>
            <a:r>
              <a:rPr b="0" lang="fi-FI" sz="300" spc="-1" strike="noStrike">
                <a:solidFill>
                  <a:srgbClr val="000000"/>
                </a:solidFill>
                <a:latin typeface="Calibri"/>
              </a:rPr>
              <a:t>Bauer, J., Rehrl, M., &amp; Harteis, C.(2007).Measurement of learning culture: A motivational approach. In H. Gruber &amp; T. Palonen (Eds.), Learning in the workplace – new developments (pp. 21- 50). Finnish Educational Research Association. Turku: Painosalama</a:t>
            </a:r>
            <a:br>
              <a:rPr sz="300"/>
            </a:br>
            <a:r>
              <a:rPr b="0" lang="fi-FI" sz="300" spc="-1" strike="noStrike">
                <a:solidFill>
                  <a:srgbClr val="000000"/>
                </a:solidFill>
                <a:latin typeface="Calibri"/>
              </a:rPr>
              <a:t>        Kaplan, R.S. &amp; Norton, D.P. (1996). The Balanced Scorecard. Harward Business School Press: </a:t>
            </a:r>
            <a:br>
              <a:rPr sz="300"/>
            </a:br>
            <a:r>
              <a:rPr b="0" lang="fi-FI" sz="300" spc="-1" strike="noStrike">
                <a:solidFill>
                  <a:srgbClr val="000000"/>
                </a:solidFill>
                <a:latin typeface="Calibri"/>
              </a:rPr>
              <a:t>        Luoma, K., Troberg, E., Kaajas, S. ja Nordlund, H. (2004). Ei ainoastaan rahasta - osaamisen kokonaispalkitseminen. Vammala: Kustannusosakeyhtiö Tammi Oy.</a:t>
            </a:r>
            <a:endParaRPr b="0" lang="en-US" sz="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 spc="-1" strike="noStrike">
                <a:solidFill>
                  <a:srgbClr val="000000"/>
                </a:solidFill>
                <a:latin typeface="Calibri"/>
              </a:rPr>
              <a:t>        </a:t>
            </a:r>
            <a:r>
              <a:rPr b="0" lang="fi-FI" sz="300" spc="-1" strike="noStrike">
                <a:solidFill>
                  <a:srgbClr val="000000"/>
                </a:solidFill>
                <a:latin typeface="Calibri"/>
              </a:rPr>
              <a:t>Rynes, S. L., Gerhart, B. &amp; Minette, K. A. (2004). The importance of pay in employee motivation: Discrepancies between what people say and what they do. Human Resource Management, Winter 2004, Vol.43(4), 381-394. </a:t>
            </a:r>
            <a:endParaRPr b="0" lang="en-US" sz="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 spc="-1" strike="noStrike" u="sng">
                <a:solidFill>
                  <a:srgbClr val="0000ff"/>
                </a:solidFill>
                <a:uFillTx/>
                <a:latin typeface="Calibri"/>
                <a:hlinkClick r:id="rId1"/>
              </a:rPr>
              <a:t>http://proquest.umi.com/pqdlink?did=750777791&amp;sid=1&amp;Fmt=6&amp;clientId=23398&amp;RQT=309&amp;VName=PQD</a:t>
            </a:r>
            <a:endParaRPr b="0" lang="en-US" sz="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 spc="-1" strike="noStrike">
                <a:solidFill>
                  <a:srgbClr val="000000"/>
                </a:solidFill>
                <a:latin typeface="Calibri"/>
              </a:rPr>
              <a:t>       </a:t>
            </a:r>
            <a:r>
              <a:rPr b="0" lang="fi-FI" sz="300" spc="-1" strike="noStrike">
                <a:solidFill>
                  <a:srgbClr val="000000"/>
                </a:solidFill>
                <a:latin typeface="Calibri"/>
              </a:rPr>
              <a:t>Salas, E., Rosen, M.A., Burke, C. S., Goodwin, G.F. &amp; Fiore, S. M.(2006) The making of a dream team: when expert teams do best. Teoksessa K. A. Ericsson, N. Charness, P.J. Feltovich, &amp; R.R. Hoffman. (Toim.), The Cambridge handbook of expertise and expert performance, 439-453. </a:t>
            </a:r>
            <a:r>
              <a:rPr b="0" lang="en-US" sz="300" spc="-1" strike="noStrike">
                <a:solidFill>
                  <a:srgbClr val="000000"/>
                </a:solidFill>
                <a:latin typeface="Calibri"/>
              </a:rPr>
              <a:t>New York: Cambricge University Press</a:t>
            </a:r>
            <a:endParaRPr b="0" lang="en-US" sz="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 spc="-1" strike="noStrike">
                <a:solidFill>
                  <a:srgbClr val="000000"/>
                </a:solidFill>
                <a:latin typeface="Calibri"/>
              </a:rPr>
              <a:t>      </a:t>
            </a:r>
            <a:r>
              <a:rPr b="0" lang="fi-FI" sz="300" spc="-1" strike="noStrike">
                <a:solidFill>
                  <a:srgbClr val="000000"/>
                </a:solidFill>
                <a:latin typeface="Calibri"/>
              </a:rPr>
              <a:t>Vartiainen, M. &amp; Nurmela, K., (2002). Tavoitteet ja tulkinnat – motivaatio ja palkitseminen työelämässä. Teoksessa Salmela-Aro, K. &amp; Nurmi, J. E. (toim.) Mikä meitä liikuttaa? Modernin motivaatiopsykolgian perusteet. s. 188-210. PS Kustannus: Jyväskylä</a:t>
            </a:r>
            <a:endParaRPr b="0" lang="en-US" sz="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 spc="-1" strike="noStrike">
                <a:solidFill>
                  <a:srgbClr val="000000"/>
                </a:solidFill>
                <a:latin typeface="Calibri"/>
              </a:rPr>
              <a:t>       </a:t>
            </a:r>
            <a:r>
              <a:rPr b="0" lang="fi-FI" sz="300" spc="-1" strike="noStrike">
                <a:solidFill>
                  <a:srgbClr val="000000"/>
                </a:solidFill>
                <a:latin typeface="Calibri"/>
              </a:rPr>
              <a:t>Wiskari, J.(2009). Totuuden hetki - esimiestyö palveluympäristössä. Helsinki: Talentum.</a:t>
            </a:r>
            <a:endParaRPr b="0" lang="en-US" sz="300" spc="-1" strike="noStrike">
              <a:solidFill>
                <a:srgbClr val="000000"/>
              </a:solidFill>
              <a:latin typeface="Arial"/>
            </a:endParaRPr>
          </a:p>
        </p:txBody>
      </p:sp>
      <p:sp>
        <p:nvSpPr>
          <p:cNvPr id="63" name="Tekstikehys 42"/>
          <p:cNvSpPr/>
          <p:nvPr/>
        </p:nvSpPr>
        <p:spPr>
          <a:xfrm>
            <a:off x="539640" y="6381720"/>
            <a:ext cx="221472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00" spc="-1" strike="noStrike">
                <a:solidFill>
                  <a:srgbClr val="000000"/>
                </a:solidFill>
                <a:latin typeface="Calibri"/>
              </a:rPr>
              <a:t>Kuva 1.</a:t>
            </a:r>
            <a:r>
              <a:rPr b="0" lang="fi-FI" sz="500" spc="-1" strike="noStrike">
                <a:solidFill>
                  <a:srgbClr val="000000"/>
                </a:solidFill>
                <a:latin typeface="Calibri"/>
              </a:rPr>
              <a:t> Valmentava esimies tuntee alaisensa tarpeet ja osaa auttaa asiantuntijaa niin, että hän on valmis delegoituihin tehtäviin. (Wiskari, 2009) </a:t>
            </a:r>
            <a:endParaRPr b="0" lang="en-US" sz="500" spc="-1" strike="noStrike">
              <a:solidFill>
                <a:srgbClr val="000000"/>
              </a:solidFill>
              <a:latin typeface="Arial"/>
            </a:endParaRPr>
          </a:p>
        </p:txBody>
      </p:sp>
      <p:sp>
        <p:nvSpPr>
          <p:cNvPr id="64" name="Tekstikehys 42"/>
          <p:cNvSpPr/>
          <p:nvPr/>
        </p:nvSpPr>
        <p:spPr>
          <a:xfrm>
            <a:off x="6443640" y="5373720"/>
            <a:ext cx="2214720" cy="39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00" spc="-1" strike="noStrike">
                <a:solidFill>
                  <a:srgbClr val="000000"/>
                </a:solidFill>
                <a:latin typeface="Calibri"/>
              </a:rPr>
              <a:t>Kuva 3. </a:t>
            </a:r>
            <a:r>
              <a:rPr b="0" lang="fi-FI" sz="500" spc="-1" strike="noStrike">
                <a:solidFill>
                  <a:srgbClr val="000000"/>
                </a:solidFill>
                <a:latin typeface="Calibri"/>
              </a:rPr>
              <a:t>Motivaation rakentumisessa on tärkeää, että asiantuntija saa oikea-aikaista palautetta,  häntä palkitaan onnistumisesta ja häntä arvostetaan ja häneen luotetaan  sekä osoitetaan aitoa kiinnostusta häntä ja hänen työtään kohtaan.  </a:t>
            </a:r>
            <a:endParaRPr b="0" lang="en-US" sz="500" spc="-1" strike="noStrike">
              <a:solidFill>
                <a:srgbClr val="000000"/>
              </a:solidFill>
              <a:latin typeface="Arial"/>
            </a:endParaRPr>
          </a:p>
        </p:txBody>
      </p:sp>
      <p:sp>
        <p:nvSpPr>
          <p:cNvPr id="65" name="Suorakulmio 59"/>
          <p:cNvSpPr/>
          <p:nvPr/>
        </p:nvSpPr>
        <p:spPr>
          <a:xfrm>
            <a:off x="3348000" y="2687760"/>
            <a:ext cx="2519280" cy="320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Organisaation menestymiseen vaikuttavat työntekijöiden sekä organisaation oppiminen ja kasvu. Tiedollinen ja taidollinen asiantuntijuus ei lisää organisaation menestystä. Menestykseen tarvitaan organisaation parhaaksi toimimaan motivoituneita henkilöitä, joilla on myös toiminta- ja päätöksentekovapautta. Tällainen ilmapiiri edistää työntekijän motivaatiota ja aloitteellisuutta. Työntekijät tarvitsevat nopeaa ja oikea-aikaista palautetta tekemästään työstä, oli se sitten tuote tai palvelu. Vain tällaisen palautteen avulla voidaan odottaa työntekijöiden parantavan suorituksiaan, eliminoivan virheitään vähentääkseen kustannuksia ja säästääkseen aikaa.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Sisäisen motivaation syntymiseen ja asiantuntijan motivaation vaaditaan (Kuva 2):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kompetenssin (tunne kyvystä suoriutua tehtävistä ja onnistumisen kokemuksista), </a:t>
            </a:r>
            <a:endParaRPr b="0" lang="en-US" sz="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autonomian (itsenäisyys ja itsemääräämisoikeus) sekä </a:t>
            </a:r>
            <a:endParaRPr b="0" lang="en-US" sz="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yhteisöllisyyden tunnetta (yhteys toisiin ihmisiin ja ryhmään kuulumista) tarjoamalla työntekijöille mahdollisuuksia omaa työtä koskevien päätösten tekemiseen ja työntekijöiden näkökulmien hyväksymisellä.</a:t>
            </a:r>
            <a:endParaRPr b="0" lang="en-US" sz="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Pelkkä raha ei riitä työntekijöiden motivoitumisen perustaksi, vaan erityisesti osaajia motivoi työ, palautteellisuus ja merkityksellisyyden kokeminen organisaatiossa, oppiminen ja haastavat saavutukse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Esimiehen rooli on tärkeä palkitsemisen toteuttajana. Hänen tulisi tunnistaa alaistensa erilaiset motivaattorit sekä tiedostaa oma roolinsa merkityksellisyyden kokemisessa.</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Palkitsemiseen liittyy yksilön omakohtainen kokemus siitä, miten palkitsevaa palkitseminen on.  Palkitsemisen kokonaisuus sisältää:</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1. Aineellinen palkitseminen (palkka ja palkkio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2. välillinen aineellinen palkitseminen (koulutus, urakehitys) ja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3. aineeton palkitseminen (työstä saatu kiitos ja palaute).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Aineellinen palkitseminen ei toimi pitkän ajan motivaation lähteenä, mutta se voi olla tyytymättömyyden syy. Palkan vaikutus on tärkeämpi uran alkuvaiheessa, myöhemmin sen vaikutus vähenee. Erikoispalkkiot yms. ovat nopeita palkitsemismuotoja, osaamisen kehittämiseen liittyvät koulutus- ja valmennusohjelmat puolestaan hitaita palkitsemismuotoja. Palkka on kuitenkin voimakas motivaattori. Ihmisillä on taipumusta aliarvioida palkan merkitystä työmotivaatioonsa.</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Bauer, Rehrl &amp; Harteis, 2007; Kaplan &amp; Norton 1996; Luoma et al., 2004; Rynesin et al., 2004) </a:t>
            </a:r>
            <a:endParaRPr b="0" lang="en-US" sz="500" spc="-1" strike="noStrike">
              <a:solidFill>
                <a:srgbClr val="000000"/>
              </a:solidFill>
              <a:latin typeface="Arial"/>
            </a:endParaRPr>
          </a:p>
        </p:txBody>
      </p:sp>
      <p:sp>
        <p:nvSpPr>
          <p:cNvPr id="66" name="Suorakulmio 78"/>
          <p:cNvSpPr/>
          <p:nvPr/>
        </p:nvSpPr>
        <p:spPr>
          <a:xfrm>
            <a:off x="3276720" y="2492280"/>
            <a:ext cx="2663640" cy="144720"/>
          </a:xfrm>
          <a:prstGeom prst="rect">
            <a:avLst/>
          </a:prstGeom>
          <a:solidFill>
            <a:srgbClr val="d1337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ffffff"/>
                </a:solidFill>
                <a:latin typeface="Calibri"/>
              </a:rPr>
              <a:t>Motivaation merkitys työssä</a:t>
            </a:r>
            <a:endParaRPr b="0" lang="en-US" sz="1000" spc="-1" strike="noStrike">
              <a:solidFill>
                <a:srgbClr val="000000"/>
              </a:solidFill>
              <a:latin typeface="Arial"/>
            </a:endParaRPr>
          </a:p>
        </p:txBody>
      </p:sp>
      <p:grpSp>
        <p:nvGrpSpPr>
          <p:cNvPr id="67" name="Ryhmä 35"/>
          <p:cNvGrpSpPr/>
          <p:nvPr/>
        </p:nvGrpSpPr>
        <p:grpSpPr>
          <a:xfrm>
            <a:off x="6804000" y="3645000"/>
            <a:ext cx="1500120" cy="1714320"/>
            <a:chOff x="6804000" y="3645000"/>
            <a:chExt cx="1500120" cy="1714320"/>
          </a:xfrm>
        </p:grpSpPr>
        <p:sp>
          <p:nvSpPr>
            <p:cNvPr id="68" name="Suorakulmio 102"/>
            <p:cNvSpPr/>
            <p:nvPr/>
          </p:nvSpPr>
          <p:spPr>
            <a:xfrm>
              <a:off x="6875280" y="4216320"/>
              <a:ext cx="285480" cy="7858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Suorakulmio 103"/>
            <p:cNvSpPr/>
            <p:nvPr/>
          </p:nvSpPr>
          <p:spPr>
            <a:xfrm>
              <a:off x="6875280" y="5073840"/>
              <a:ext cx="1357560" cy="2854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ffffff"/>
                  </a:solidFill>
                  <a:latin typeface="Calibri"/>
                </a:rPr>
                <a:t>Motivaatiotekijöiden tunteminen</a:t>
              </a:r>
              <a:endParaRPr b="0" lang="en-US" sz="800" spc="-1" strike="noStrike">
                <a:solidFill>
                  <a:srgbClr val="000000"/>
                </a:solidFill>
                <a:latin typeface="Arial"/>
              </a:endParaRPr>
            </a:p>
          </p:txBody>
        </p:sp>
        <p:sp>
          <p:nvSpPr>
            <p:cNvPr id="70" name="Suorakulmio 104"/>
            <p:cNvSpPr/>
            <p:nvPr/>
          </p:nvSpPr>
          <p:spPr>
            <a:xfrm>
              <a:off x="7232400" y="4216320"/>
              <a:ext cx="285480" cy="7858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Suorakulmio 105"/>
            <p:cNvSpPr/>
            <p:nvPr/>
          </p:nvSpPr>
          <p:spPr>
            <a:xfrm>
              <a:off x="7589880" y="4216320"/>
              <a:ext cx="285480" cy="7858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Suorakulmio 106"/>
            <p:cNvSpPr/>
            <p:nvPr/>
          </p:nvSpPr>
          <p:spPr>
            <a:xfrm>
              <a:off x="7947000" y="4216320"/>
              <a:ext cx="285480" cy="7858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kstikehys 29"/>
            <p:cNvSpPr/>
            <p:nvPr/>
          </p:nvSpPr>
          <p:spPr>
            <a:xfrm>
              <a:off x="6804000" y="4287960"/>
              <a:ext cx="428400" cy="54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Osallista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ja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val-</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tuuta       -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delegoi</a:t>
              </a:r>
              <a:endParaRPr b="0" lang="en-US" sz="500" spc="-1" strike="noStrike">
                <a:solidFill>
                  <a:srgbClr val="000000"/>
                </a:solidFill>
                <a:latin typeface="Arial"/>
              </a:endParaRPr>
            </a:p>
          </p:txBody>
        </p:sp>
        <p:sp>
          <p:nvSpPr>
            <p:cNvPr id="74" name="Tekstikehys 30"/>
            <p:cNvSpPr/>
            <p:nvPr/>
          </p:nvSpPr>
          <p:spPr>
            <a:xfrm>
              <a:off x="7161120" y="4287960"/>
              <a:ext cx="428400" cy="4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Yllä-  pidä yhtei- sölli-syyttä</a:t>
              </a:r>
              <a:endParaRPr b="0" lang="en-US" sz="500" spc="-1" strike="noStrike">
                <a:solidFill>
                  <a:srgbClr val="000000"/>
                </a:solidFill>
                <a:latin typeface="Arial"/>
              </a:endParaRPr>
            </a:p>
          </p:txBody>
        </p:sp>
        <p:sp>
          <p:nvSpPr>
            <p:cNvPr id="75" name="Tekstikehys 31"/>
            <p:cNvSpPr/>
            <p:nvPr/>
          </p:nvSpPr>
          <p:spPr>
            <a:xfrm>
              <a:off x="7518240" y="4287960"/>
              <a:ext cx="428400" cy="24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Luo haas-teita</a:t>
              </a:r>
              <a:endParaRPr b="0" lang="en-US" sz="500" spc="-1" strike="noStrike">
                <a:solidFill>
                  <a:srgbClr val="000000"/>
                </a:solidFill>
                <a:latin typeface="Arial"/>
              </a:endParaRPr>
            </a:p>
          </p:txBody>
        </p:sp>
        <p:sp>
          <p:nvSpPr>
            <p:cNvPr id="76" name="Tekstikehys 32"/>
            <p:cNvSpPr/>
            <p:nvPr/>
          </p:nvSpPr>
          <p:spPr>
            <a:xfrm>
              <a:off x="7875720" y="4287960"/>
              <a:ext cx="428400" cy="3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Huomioi ja palkitse</a:t>
              </a:r>
              <a:endParaRPr b="0" lang="en-US" sz="500" spc="-1" strike="noStrike">
                <a:solidFill>
                  <a:srgbClr val="000000"/>
                </a:solidFill>
                <a:latin typeface="Arial"/>
              </a:endParaRPr>
            </a:p>
          </p:txBody>
        </p:sp>
        <p:sp>
          <p:nvSpPr>
            <p:cNvPr id="77" name="Tasakylkinen kolmio 111"/>
            <p:cNvSpPr/>
            <p:nvPr/>
          </p:nvSpPr>
          <p:spPr>
            <a:xfrm>
              <a:off x="6875280" y="3645000"/>
              <a:ext cx="1357560" cy="214200"/>
            </a:xfrm>
            <a:prstGeom prst="triangle">
              <a:avLst>
                <a:gd name="adj" fmla="val 49574"/>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600" spc="-1" strike="noStrike">
                  <a:solidFill>
                    <a:srgbClr val="ffffff"/>
                  </a:solidFill>
                  <a:latin typeface="Calibri"/>
                </a:rPr>
                <a:t>Viikkopalaverit</a:t>
              </a:r>
              <a:endParaRPr b="0" lang="en-US" sz="600" spc="-1" strike="noStrike">
                <a:solidFill>
                  <a:srgbClr val="000000"/>
                </a:solidFill>
                <a:latin typeface="Arial"/>
              </a:endParaRPr>
            </a:p>
          </p:txBody>
        </p:sp>
        <p:sp>
          <p:nvSpPr>
            <p:cNvPr id="78" name="Suorakulmio 112"/>
            <p:cNvSpPr/>
            <p:nvPr/>
          </p:nvSpPr>
          <p:spPr>
            <a:xfrm>
              <a:off x="6875280" y="3859200"/>
              <a:ext cx="1357560" cy="2142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ffffff"/>
                  </a:solidFill>
                  <a:latin typeface="Calibri"/>
                </a:rPr>
                <a:t>Asiantuntijan motivaation tukeminen</a:t>
              </a:r>
              <a:endParaRPr b="0" lang="en-US" sz="800" spc="-1" strike="noStrike">
                <a:solidFill>
                  <a:srgbClr val="000000"/>
                </a:solidFill>
                <a:latin typeface="Arial"/>
              </a:endParaRPr>
            </a:p>
          </p:txBody>
        </p:sp>
      </p:grpSp>
      <p:sp>
        <p:nvSpPr>
          <p:cNvPr id="79" name="Suorakulmio 75"/>
          <p:cNvSpPr/>
          <p:nvPr/>
        </p:nvSpPr>
        <p:spPr>
          <a:xfrm>
            <a:off x="6227640" y="907920"/>
            <a:ext cx="2592360" cy="142920"/>
          </a:xfrm>
          <a:prstGeom prst="rect">
            <a:avLst/>
          </a:prstGeom>
          <a:solidFill>
            <a:srgbClr val="d1337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ffffff"/>
                </a:solidFill>
                <a:latin typeface="Calibri"/>
              </a:rPr>
              <a:t>Johtopäätökset</a:t>
            </a:r>
            <a:endParaRPr b="0" lang="en-US" sz="1000" spc="-1" strike="noStrike">
              <a:solidFill>
                <a:srgbClr val="000000"/>
              </a:solidFill>
              <a:latin typeface="Arial"/>
            </a:endParaRPr>
          </a:p>
        </p:txBody>
      </p:sp>
      <p:grpSp>
        <p:nvGrpSpPr>
          <p:cNvPr id="80" name="Ryhmä 82"/>
          <p:cNvGrpSpPr/>
          <p:nvPr/>
        </p:nvGrpSpPr>
        <p:grpSpPr>
          <a:xfrm>
            <a:off x="684360" y="5352120"/>
            <a:ext cx="1800000" cy="1067760"/>
            <a:chOff x="684360" y="5352120"/>
            <a:chExt cx="1800000" cy="1067760"/>
          </a:xfrm>
        </p:grpSpPr>
        <p:grpSp>
          <p:nvGrpSpPr>
            <p:cNvPr id="81" name="Ryhmä 61"/>
            <p:cNvGrpSpPr/>
            <p:nvPr/>
          </p:nvGrpSpPr>
          <p:grpSpPr>
            <a:xfrm>
              <a:off x="684360" y="5352120"/>
              <a:ext cx="1800000" cy="1067760"/>
              <a:chOff x="684360" y="5352120"/>
              <a:chExt cx="1800000" cy="1067760"/>
            </a:xfrm>
          </p:grpSpPr>
          <p:sp>
            <p:nvSpPr>
              <p:cNvPr id="82" name="Pyöristetty suorakulmio 62"/>
              <p:cNvSpPr/>
              <p:nvPr/>
            </p:nvSpPr>
            <p:spPr>
              <a:xfrm>
                <a:off x="892080" y="5373720"/>
                <a:ext cx="761760" cy="3556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ffffff"/>
                    </a:solidFill>
                    <a:latin typeface="Calibri"/>
                  </a:rPr>
                  <a:t>Tue</a:t>
                </a:r>
                <a:endParaRPr b="0" lang="en-US" sz="800" spc="-1" strike="noStrike">
                  <a:solidFill>
                    <a:srgbClr val="000000"/>
                  </a:solidFill>
                  <a:latin typeface="Arial"/>
                </a:endParaRPr>
              </a:p>
            </p:txBody>
          </p:sp>
          <p:sp>
            <p:nvSpPr>
              <p:cNvPr id="83" name="Pyöristetty suorakulmio 63"/>
              <p:cNvSpPr/>
              <p:nvPr/>
            </p:nvSpPr>
            <p:spPr>
              <a:xfrm>
                <a:off x="1722600" y="5373720"/>
                <a:ext cx="761760" cy="3556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ffffff"/>
                    </a:solidFill>
                    <a:latin typeface="Calibri"/>
                  </a:rPr>
                  <a:t>Delegoi</a:t>
                </a:r>
                <a:endParaRPr b="0" lang="en-US" sz="800" spc="-1" strike="noStrike">
                  <a:solidFill>
                    <a:srgbClr val="000000"/>
                  </a:solidFill>
                  <a:latin typeface="Arial"/>
                </a:endParaRPr>
              </a:p>
            </p:txBody>
          </p:sp>
          <p:sp>
            <p:nvSpPr>
              <p:cNvPr id="84" name="Pyöristetty suorakulmio 64"/>
              <p:cNvSpPr/>
              <p:nvPr/>
            </p:nvSpPr>
            <p:spPr>
              <a:xfrm>
                <a:off x="892080" y="5848200"/>
                <a:ext cx="761760" cy="3556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ffffff"/>
                    </a:solidFill>
                    <a:latin typeface="Calibri"/>
                  </a:rPr>
                  <a:t>Ohjaa</a:t>
                </a:r>
                <a:endParaRPr b="0" lang="en-US" sz="800" spc="-1" strike="noStrike">
                  <a:solidFill>
                    <a:srgbClr val="000000"/>
                  </a:solidFill>
                  <a:latin typeface="Arial"/>
                </a:endParaRPr>
              </a:p>
            </p:txBody>
          </p:sp>
          <p:sp>
            <p:nvSpPr>
              <p:cNvPr id="85" name="Pyöristetty suorakulmio 65"/>
              <p:cNvSpPr/>
              <p:nvPr/>
            </p:nvSpPr>
            <p:spPr>
              <a:xfrm>
                <a:off x="1722600" y="5848200"/>
                <a:ext cx="761760" cy="3556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ffffff"/>
                    </a:solidFill>
                    <a:latin typeface="Calibri"/>
                  </a:rPr>
                  <a:t>Innosta</a:t>
                </a:r>
                <a:endParaRPr b="0" lang="en-US" sz="800" spc="-1" strike="noStrike">
                  <a:solidFill>
                    <a:srgbClr val="000000"/>
                  </a:solidFill>
                  <a:latin typeface="Arial"/>
                </a:endParaRPr>
              </a:p>
            </p:txBody>
          </p:sp>
          <p:sp>
            <p:nvSpPr>
              <p:cNvPr id="86" name="Tekstikehys 66"/>
              <p:cNvSpPr/>
              <p:nvPr/>
            </p:nvSpPr>
            <p:spPr>
              <a:xfrm rot="16200000">
                <a:off x="320760" y="5715360"/>
                <a:ext cx="942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 </a:t>
                </a:r>
                <a:r>
                  <a:rPr b="0" lang="fi-FI" sz="800" spc="-1" strike="noStrike">
                    <a:solidFill>
                      <a:srgbClr val="000000"/>
                    </a:solidFill>
                    <a:latin typeface="Arial"/>
                  </a:rPr>
                  <a:t>-   Motivaatio   +</a:t>
                </a:r>
                <a:endParaRPr b="0" lang="en-US" sz="800" spc="-1" strike="noStrike">
                  <a:solidFill>
                    <a:srgbClr val="000000"/>
                  </a:solidFill>
                  <a:latin typeface="Arial"/>
                </a:endParaRPr>
              </a:p>
            </p:txBody>
          </p:sp>
          <p:sp>
            <p:nvSpPr>
              <p:cNvPr id="87" name="Tekstikehys 67"/>
              <p:cNvSpPr/>
              <p:nvPr/>
            </p:nvSpPr>
            <p:spPr>
              <a:xfrm>
                <a:off x="1168920" y="6204240"/>
                <a:ext cx="1107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      </a:t>
                </a:r>
                <a:r>
                  <a:rPr b="0" lang="fi-FI" sz="800" spc="-1" strike="noStrike">
                    <a:solidFill>
                      <a:srgbClr val="000000"/>
                    </a:solidFill>
                    <a:latin typeface="Arial"/>
                  </a:rPr>
                  <a:t>-     Kyvyt    +</a:t>
                </a:r>
                <a:endParaRPr b="0" lang="en-US" sz="800" spc="-1" strike="noStrike">
                  <a:solidFill>
                    <a:srgbClr val="000000"/>
                  </a:solidFill>
                  <a:latin typeface="Arial"/>
                </a:endParaRPr>
              </a:p>
            </p:txBody>
          </p:sp>
        </p:grpSp>
        <p:sp>
          <p:nvSpPr>
            <p:cNvPr id="88" name="Kaarinuoli alas 68"/>
            <p:cNvSpPr/>
            <p:nvPr/>
          </p:nvSpPr>
          <p:spPr>
            <a:xfrm rot="19941600">
              <a:off x="1169640" y="5569920"/>
              <a:ext cx="739800" cy="160200"/>
            </a:xfrm>
            <a:custGeom>
              <a:avLst/>
              <a:gdLst>
                <a:gd name="textAreaLeft" fmla="*/ 167400 w 739800"/>
                <a:gd name="textAreaRight" fmla="*/ 549000 w 739800"/>
                <a:gd name="textAreaTop" fmla="*/ 21240 h 160200"/>
                <a:gd name="textAreaBottom" fmla="*/ 138960 h 160200"/>
              </a:gdLst>
              <a:ahLst/>
              <a:rect l="textAreaLeft" t="textAreaTop" r="textAreaRight" b="textAreaBottom"/>
              <a:pathLst>
                <a:path w="21600" h="21600">
                  <a:moveTo>
                    <a:pt x="0" y="21600"/>
                  </a:moveTo>
                  <a:arcTo wR="9775" hR="21600" stAng="10800000" swAng="5400000"/>
                  <a:lnTo>
                    <a:pt x="11141" y="0"/>
                  </a:lnTo>
                  <a:arcTo wR="9775" hR="21600" stAng="-5400000" swAng="3617593"/>
                  <a:lnTo>
                    <a:pt x="21290" y="16200"/>
                  </a:lnTo>
                  <a:lnTo>
                    <a:pt x="20233" y="21600"/>
                  </a:lnTo>
                  <a:lnTo>
                    <a:pt x="18556" y="16200"/>
                  </a:lnTo>
                  <a:lnTo>
                    <a:pt x="19240" y="16200"/>
                  </a:lnTo>
                  <a:arcTo wR="9775" hR="21600" stAng="-1782407" swAng="-3508660"/>
                  <a:lnTo>
                    <a:pt x="10458" y="53"/>
                  </a:lnTo>
                  <a:arcTo wR="9775" hR="21600" stAng="-5508933" swAng="-5291067"/>
                  <a:close/>
                </a:path>
                <a:path fill="darkenLess" w="21600" h="21600">
                  <a:moveTo>
                    <a:pt x="0" y="21600"/>
                  </a:moveTo>
                  <a:arcTo wR="9775" hR="21600" stAng="10800000" swAng="5400000"/>
                  <a:lnTo>
                    <a:pt x="9775" y="0"/>
                  </a:lnTo>
                  <a:arcTo wR="9775" hR="21600" stAng="-5400000" swAng="108933"/>
                  <a:lnTo>
                    <a:pt x="10458" y="53"/>
                  </a:lnTo>
                  <a:arcTo wR="9775" hR="21600" stAng="-5508933" swAng="-5291067"/>
                  <a:close/>
                </a:path>
              </a:pathLst>
            </a:cu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Kaarinuoli alas 69"/>
            <p:cNvSpPr/>
            <p:nvPr/>
          </p:nvSpPr>
          <p:spPr>
            <a:xfrm flipV="1" rot="19942200">
              <a:off x="1370160" y="5809680"/>
              <a:ext cx="739800" cy="131760"/>
            </a:xfrm>
            <a:custGeom>
              <a:avLst/>
              <a:gdLst>
                <a:gd name="textAreaLeft" fmla="*/ 170640 w 739800"/>
                <a:gd name="textAreaRight" fmla="*/ 550800 w 739800"/>
                <a:gd name="textAreaTop" fmla="*/ 17640 h 131760"/>
                <a:gd name="textAreaBottom" fmla="*/ 114120 h 131760"/>
              </a:gdLst>
              <a:ahLst/>
              <a:rect l="textAreaLeft" t="textAreaTop" r="textAreaRight" b="textAreaBottom"/>
              <a:pathLst>
                <a:path w="21600" h="21600">
                  <a:moveTo>
                    <a:pt x="0" y="21600"/>
                  </a:moveTo>
                  <a:arcTo wR="9968" hR="21600" stAng="10800000" swAng="5400000"/>
                  <a:lnTo>
                    <a:pt x="11091" y="0"/>
                  </a:lnTo>
                  <a:arcTo wR="9968" hR="21600" stAng="-5400000" swAng="3908839"/>
                  <a:lnTo>
                    <a:pt x="21380" y="17085"/>
                  </a:lnTo>
                  <a:lnTo>
                    <a:pt x="20498" y="21600"/>
                  </a:lnTo>
                  <a:lnTo>
                    <a:pt x="19175" y="17085"/>
                  </a:lnTo>
                  <a:lnTo>
                    <a:pt x="19716" y="17085"/>
                  </a:lnTo>
                  <a:arcTo wR="9968" hR="21600" stAng="-1491161" swAng="-3819351"/>
                  <a:lnTo>
                    <a:pt x="10530" y="34"/>
                  </a:lnTo>
                  <a:arcTo wR="9968" hR="21600" stAng="-5489487" swAng="-5310513"/>
                  <a:close/>
                </a:path>
                <a:path fill="darkenLess" w="21600" h="21600">
                  <a:moveTo>
                    <a:pt x="0" y="21600"/>
                  </a:moveTo>
                  <a:arcTo wR="9968" hR="21600" stAng="10800000" swAng="5400000"/>
                  <a:lnTo>
                    <a:pt x="9968" y="0"/>
                  </a:lnTo>
                  <a:arcTo wR="9968" hR="21600" stAng="-5400000" swAng="89487"/>
                  <a:lnTo>
                    <a:pt x="10530" y="34"/>
                  </a:lnTo>
                  <a:arcTo wR="9968" hR="21600" stAng="-5489487" swAng="-5310513"/>
                  <a:close/>
                </a:path>
              </a:pathLst>
            </a:cu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0" name="Picture 73" descr="EB"/>
          <p:cNvPicPr/>
          <p:nvPr/>
        </p:nvPicPr>
        <p:blipFill>
          <a:blip r:embed="rId2"/>
          <a:stretch/>
        </p:blipFill>
        <p:spPr>
          <a:xfrm>
            <a:off x="8459640" y="254160"/>
            <a:ext cx="339840" cy="322200"/>
          </a:xfrm>
          <a:prstGeom prst="rect">
            <a:avLst/>
          </a:prstGeom>
          <a:ln w="0">
            <a:noFill/>
          </a:ln>
        </p:spPr>
      </p:pic>
      <p:sp>
        <p:nvSpPr>
          <p:cNvPr id="91" name="AutoShape 7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7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7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kstikehys 73"/>
          <p:cNvSpPr/>
          <p:nvPr/>
        </p:nvSpPr>
        <p:spPr>
          <a:xfrm>
            <a:off x="7667640" y="333360"/>
            <a:ext cx="18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7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Picture 78" descr=""/>
          <p:cNvPicPr/>
          <p:nvPr/>
        </p:nvPicPr>
        <p:blipFill>
          <a:blip r:embed="rId3"/>
          <a:stretch/>
        </p:blipFill>
        <p:spPr>
          <a:xfrm>
            <a:off x="7740720" y="189000"/>
            <a:ext cx="538200" cy="588960"/>
          </a:xfrm>
          <a:prstGeom prst="rect">
            <a:avLst/>
          </a:prstGeom>
          <a:ln w="0">
            <a:noFill/>
          </a:ln>
        </p:spPr>
      </p:pic>
      <p:pic>
        <p:nvPicPr>
          <p:cNvPr id="97" name="Picture 79" descr=""/>
          <p:cNvPicPr/>
          <p:nvPr/>
        </p:nvPicPr>
        <p:blipFill>
          <a:blip r:embed="rId4"/>
          <a:stretch/>
        </p:blipFill>
        <p:spPr>
          <a:xfrm>
            <a:off x="179280" y="212760"/>
            <a:ext cx="1506600" cy="738000"/>
          </a:xfrm>
          <a:prstGeom prst="rect">
            <a:avLst/>
          </a:prstGeom>
          <a:ln w="0">
            <a:noFill/>
          </a:ln>
        </p:spPr>
      </p:pic>
      <p:sp>
        <p:nvSpPr>
          <p:cNvPr id="98" name="Tekstikehys 81"/>
          <p:cNvSpPr/>
          <p:nvPr/>
        </p:nvSpPr>
        <p:spPr>
          <a:xfrm>
            <a:off x="6300720" y="1125360"/>
            <a:ext cx="2448000" cy="252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Yhteisöllisyyden tunne ja mahdollisuus saada palautetta työstään säännöllisesti ovat sisäisen motivaation tärkeitä osatekijä. Yhteisöllisyyden ja ryhmään kuulumisen tunnetta voidaan vahvistaa säännöllisillä esimiehen tai projektipäällikön ja asiantuntijoiden yhteyksillä, joissa on mahdollista saada ja antaa palautetta, kertoa kuulumiset ja päivittää työtilanne. Virallisten tiimipalavereiden lisäksi on hyvä tarjota työntekijöille esimerkiksi kerran viikossa vapaamuotoinen mahdollisuus kohdata fyysisesti kaukanakin olevat esimies, projektipäällikkö ja kollega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LiveMeeting tarjoaa tähän sähköisen tutun ja helpon ympäristön. Säännöllisillä virtuaalisilla tapaamisilla tarjotaan ympäristö mm. palautteelle, huomioimiselle, vertaistuelle, hiljaisen tiedon välittämiselle ja ideoiden synnyttämiselle.</a:t>
            </a:r>
            <a:br>
              <a:rPr sz="500"/>
            </a:br>
            <a:br>
              <a:rPr sz="500"/>
            </a:br>
            <a:r>
              <a:rPr b="0" lang="fi-FI" sz="500" spc="-1" strike="noStrike">
                <a:solidFill>
                  <a:srgbClr val="000000"/>
                </a:solidFill>
                <a:latin typeface="Calibri"/>
              </a:rPr>
              <a:t>Ohjeet esimiehelle ja projektipäällikölle asiantuntijan motivaation tukemiseen (Kuva 3):</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
            </a:br>
            <a:r>
              <a:rPr b="0" lang="fi-FI" sz="500" spc="-1" strike="noStrike">
                <a:solidFill>
                  <a:srgbClr val="000000"/>
                </a:solidFill>
                <a:latin typeface="Calibri"/>
              </a:rPr>
              <a:t>1. Tunne yksilölliset motivaatiotekijät. Esimiehen on hyvä tuntea tekijät, joista motivaatio syntyy ja tunnistaa ne alaisissaan. Esimiehen tulee tukea asiantuntijan motivaatiota mm. realistisilla tehtävänannoilla sekä onnistumisen mahdollisuuksilla. Motivaatiota ylläpidetään palautteella ja rohkaisulla.</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Osallista ja valtuuta - delegoi</a:t>
            </a:r>
            <a:br>
              <a:rPr sz="500"/>
            </a:br>
            <a:r>
              <a:rPr b="0" lang="fi-FI" sz="500" spc="-1" strike="noStrike">
                <a:solidFill>
                  <a:srgbClr val="000000"/>
                </a:solidFill>
                <a:latin typeface="Calibri"/>
              </a:rPr>
              <a:t>Esimiehen tulee luoda tilanteita, joissa asiantuntijat pääsevät vaikuttamaan asioihin, tekemään päätöksiä ja kantamaan vastuuta. Välitavoitteet mahdollistavat oikea-aikaisen palautteen antamisen.</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Rakenna ja ylläpidä yhteisöllisyyttä</a:t>
            </a:r>
            <a:br>
              <a:rPr sz="500"/>
            </a:br>
            <a:r>
              <a:rPr b="0" lang="fi-FI" sz="500" spc="-1" strike="noStrike">
                <a:solidFill>
                  <a:srgbClr val="000000"/>
                </a:solidFill>
                <a:latin typeface="Calibri"/>
              </a:rPr>
              <a:t>Esimiehen tulee mahdollistaa tilanteita ja ympäristöjä, joissa yhteisöllisyyden tunne tiimin tai ryhmän sisällä syntyy ja säilyy.</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Luo haasteita</a:t>
            </a:r>
            <a:br>
              <a:rPr sz="500"/>
            </a:br>
            <a:r>
              <a:rPr b="0" lang="fi-FI" sz="500" spc="-1" strike="noStrike">
                <a:solidFill>
                  <a:srgbClr val="000000"/>
                </a:solidFill>
                <a:latin typeface="Calibri"/>
              </a:rPr>
              <a:t>Esimiehen tulee tukea asiantuntijoita etenkin haasteellisissa tehtävissä niin, että epäonnistumisen pelko ei estä kehittymistä.</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Palkitse</a:t>
            </a:r>
            <a:br>
              <a:rPr sz="500"/>
            </a:br>
            <a:r>
              <a:rPr b="0" lang="fi-FI" sz="500" spc="-1" strike="noStrike">
                <a:solidFill>
                  <a:srgbClr val="000000"/>
                </a:solidFill>
                <a:latin typeface="Calibri"/>
              </a:rPr>
              <a:t>Työntekijöitä tulee huomioida säännöllisesti. Esimiehen pitää olla kiinnostunut asiantuntijoiden tekemisistä. Kukaan ei elä kiitoksilla, mutta niitä ei tule säästellä. Asiantuntija kaipaa myös valmennusta ja koulutusta.</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Wiskari, 2009)</a:t>
            </a:r>
            <a:endParaRPr b="0" lang="en-US" sz="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5T16:09:07Z</dcterms:created>
  <dc:creator>sirpaerkkilahakkinen</dc:creator>
  <dc:description/>
  <dc:language>en-US</dc:language>
  <cp:lastModifiedBy>sirpaerkkilahakkinen</cp:lastModifiedBy>
  <dcterms:modified xsi:type="dcterms:W3CDTF">2010-08-25T04:32:09Z</dcterms:modified>
  <cp:revision>73</cp:revision>
  <dc:subject/>
  <dc:title>Dia 1</dc:title>
</cp:coreProperties>
</file>